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70BC1-502E-4E37-A6F9-78E7E1778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29760" y="1554120"/>
            <a:ext cx="9410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29760" y="3918240"/>
            <a:ext cx="9410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2E146-2C93-49C1-987B-8F4123488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297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51519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11932A-999C-48C1-A630-94404B8AC6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FB7991-C513-40A9-9A1C-245A3CD88A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29760" y="457200"/>
            <a:ext cx="941076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FD8EE9-71B4-413D-9B62-C7DC4F3B9E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297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51519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297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8C19AB-94AE-4317-A095-72B9559DB3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297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51519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51519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5AFAF1-FB95-4B75-8E2E-7D2907BDE2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297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51519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29760" y="3918240"/>
            <a:ext cx="9410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4770DA-C538-4DD9-9B6B-6D5BEE5B16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29760" y="1554120"/>
            <a:ext cx="9410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29760" y="3918240"/>
            <a:ext cx="9410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D812F3-E40D-4C33-8FDC-3346F81E7E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297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51519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297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51519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5DF7E2-7B02-4C39-AFFA-D361F421B1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29760" y="155412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511800" y="155412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693840" y="155412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29760" y="391824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511800" y="391824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693840" y="391824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AC890D-B0AD-4506-9F91-01FDBCF659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297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51519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297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51519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235FF-009B-4E09-84A6-B085372AB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29760" y="155412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511800" y="155412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693840" y="155412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29760" y="391824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511800" y="391824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693840" y="391824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AD430-7F2F-4EDC-8B91-70B026735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4EAEF2-8C1C-4A64-A37E-83F06FF5FC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29760" y="1554120"/>
            <a:ext cx="94107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4E0AA-B10A-481F-8B73-A12597DE8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29760" y="1554120"/>
            <a:ext cx="9410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B43C6-8F3A-40FD-8A87-803BEB04A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297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51519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56F00-955B-4FEE-ACB6-4BDD2DD9B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84F70-609E-4EEC-B420-A204F9D4B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29760" y="457200"/>
            <a:ext cx="941076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7332F-A041-43CD-B7D7-A1A42F7A0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297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51519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297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820D5-1697-4B1F-9704-0EA9BA814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29760" y="1554120"/>
            <a:ext cx="94107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791D6-1C73-4E56-909C-B2F69723F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297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51519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51519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0A0CD-2D23-47E1-ADEC-8262CCDE5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297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51519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29760" y="3918240"/>
            <a:ext cx="9410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2364F-0655-4444-AAE3-ED19C70DA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29760" y="1554120"/>
            <a:ext cx="9410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29760" y="3918240"/>
            <a:ext cx="9410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7B3DA-A202-43EB-9333-7C323F697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297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51519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297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51519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D350D8-645A-4D26-ACBD-9FE3277A83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29760" y="155412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511800" y="155412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693840" y="155412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29760" y="391824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511800" y="391824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693840" y="391824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F9CC52-D443-4DF4-B115-22B3D8BFD0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5305DA-265F-4BBD-88EB-217D445794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29760" y="1554120"/>
            <a:ext cx="94107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BB0F0A-5D6B-45F2-9D4A-3B347B5EA1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29760" y="1554120"/>
            <a:ext cx="9410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ACDCB4-CE26-4DE2-BBB4-D8CC4646C5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297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51519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60D35C-A396-4113-B0A5-F4BB83811E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471BDD-F372-4A96-91E6-78950C4307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29760" y="1554120"/>
            <a:ext cx="9410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57D3A-A3D9-4498-BEB0-3B2F3533D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29760" y="457200"/>
            <a:ext cx="941076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51C141-C1DF-46A9-AE4E-56E3E66C46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297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51519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297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BEDF88-61BC-44F5-93DB-94862A4565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297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51519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51519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0CF405-B43D-4C0E-BA93-A54F8EE690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297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51519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29760" y="3918240"/>
            <a:ext cx="9410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86F9D7-F006-40AB-99EF-ABC4DF0A55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29760" y="1554120"/>
            <a:ext cx="9410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29760" y="3918240"/>
            <a:ext cx="9410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84CD20-2340-40C5-BC96-183FBF867C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297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51519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297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51519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3B1619-F70C-4A15-94C8-F0BC68A686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29760" y="155412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511800" y="155412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693840" y="155412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29760" y="391824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511800" y="391824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693840" y="391824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27C9EF-922F-48EF-AF8B-C18F40DE30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37FFBB-E0E1-4DE8-B2C7-C94E94B637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29760" y="1554120"/>
            <a:ext cx="94107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7AFA78-FCC9-4E01-8C9A-3859A982A5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29760" y="1554120"/>
            <a:ext cx="9410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0093B0-06B6-43DF-80E5-F85000850D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297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51519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59203-665E-48E1-963E-825A6C852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297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51519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4C09DB-3250-426A-978E-9FB888FF2D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A25302-DE37-44EE-8315-728FDCCF47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29760" y="457200"/>
            <a:ext cx="941076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876B02-5267-4932-8BE7-0F01B7535D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297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51519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297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DB9724-2DAC-44AB-97B6-2F45B53294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297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51519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51519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635583-464D-462E-B3FB-F3268E8C5C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297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51519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29760" y="3918240"/>
            <a:ext cx="9410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9A304F-9760-45F6-8117-8D68F55125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29760" y="1554120"/>
            <a:ext cx="9410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29760" y="3918240"/>
            <a:ext cx="9410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768D34-ABCE-4D92-9EB6-ADB1C871AB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297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51519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297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51519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B446EF-96E1-423F-BB6E-A21CE6CADB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29760" y="155412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511800" y="155412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693840" y="155412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29760" y="391824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511800" y="391824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693840" y="391824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A91AD7-D616-47DC-9881-418A2876DE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2EFE81-26B2-45DD-918F-64341A7D37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6F344-383B-4237-906A-5B4B67C0F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29760" y="1554120"/>
            <a:ext cx="94107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13A9B3-AC0D-4272-B96E-908BB8CF00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29760" y="1554120"/>
            <a:ext cx="9410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F894B1-F268-4BC6-AD04-9413ADEAB2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297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51519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BFEFC4-9CE0-42B3-9A52-73344A6B13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B6FF17-E96A-407E-BFB7-844667DDCF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29760" y="457200"/>
            <a:ext cx="941076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1AC7F7-0F34-4ADA-B39F-ABA2345227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297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51519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297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56907E-7064-488D-9201-B85AAC0955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297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51519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51519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5C504D-705C-4255-B137-1551D0B7CC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297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51519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29760" y="3918240"/>
            <a:ext cx="9410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67B829-787B-4F7F-8F8C-0A1F7F1A44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29760" y="1554120"/>
            <a:ext cx="9410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29760" y="3918240"/>
            <a:ext cx="9410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8599FC-8856-40FF-A929-CCAC9D7AD2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297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51519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297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51519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ED9AD4-4FE5-46AC-8091-BADF8A667F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29760" y="457200"/>
            <a:ext cx="941076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A1A6D-E86D-4954-A1D0-A4BDDF42B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29760" y="155412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511800" y="155412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693840" y="155412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29760" y="391824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511800" y="391824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693840" y="391824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EE3DB9-B969-4314-91E9-EA38E4A213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D69696-1EBE-43B3-AF57-56748A6913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29760" y="1554120"/>
            <a:ext cx="94107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3A2B83-D063-4946-B539-D7F17F64E2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29760" y="1554120"/>
            <a:ext cx="9410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BF8A92-2DA9-4E4A-BEDE-B1A7B02083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297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51519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5B5F92-1B09-4BC5-86FC-71A767AD9B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0CEC4A-3204-48E9-92E4-4DC8AFBDB0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29760" y="457200"/>
            <a:ext cx="941076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DDF154-7734-4C11-A777-DA7F165E23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297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51519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297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660978-62DA-42BD-83DB-0C5CD6A5F6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297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51519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51519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EFF249-ECCB-4DAA-BFE8-33EBB413C0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297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51519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29760" y="3918240"/>
            <a:ext cx="9410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9C19D7-F678-4854-8410-FA967ABA1C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297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51519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297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A0DCD-0C2B-404F-9D71-FD04A205D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29760" y="1554120"/>
            <a:ext cx="9410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29760" y="3918240"/>
            <a:ext cx="9410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688EB4-8406-4B13-BA27-BA11CE5BEB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297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51519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297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51519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467EE4-FF49-4799-BE18-A0B1A5240F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29760" y="155412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511800" y="155412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693840" y="155412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29760" y="391824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511800" y="391824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693840" y="391824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1FCA76-2C69-417C-B029-ECEE99C975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56F261-D635-469E-9DB3-E303265F42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29760" y="1554120"/>
            <a:ext cx="94107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A51E87-5F94-43A9-A6C7-E0EB702E0D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29760" y="1554120"/>
            <a:ext cx="9410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C8CBAD-6449-44F4-B1AD-2BB8453A16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297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51519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359C81-B2DE-47B8-9CC2-E5BDB9953B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79D234-EFD6-4204-B8F1-75E1CE36AB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29760" y="457200"/>
            <a:ext cx="941076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11C1BE-9830-485D-837F-4784E2129C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297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51519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297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C1ED8D-57CF-4418-A027-6E8F137B90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297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51519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51519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2C34E-BA3C-4677-9928-DE796F7AA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297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51519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51519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22374C-5009-44BC-B640-E5CB982FD6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297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51519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29760" y="3918240"/>
            <a:ext cx="9410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AE0CBD-A0A4-4602-8FF2-AB2940B5F6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29760" y="1554120"/>
            <a:ext cx="9410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29760" y="3918240"/>
            <a:ext cx="9410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3400C0-C2D7-4E04-A8EB-DBA633FDD6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297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51519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297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51519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A3D5A4-6D96-42B6-B046-7639A579FB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29760" y="155412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511800" y="155412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693840" y="155412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29760" y="391824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511800" y="391824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693840" y="391824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EEB93D-5873-46CB-A5A6-2DDA6FDD55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17EDB9-ABB4-487F-8D63-91CE140A8A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29760" y="1554120"/>
            <a:ext cx="94107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7187EE-A79C-4162-878D-C83C689502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29760" y="1554120"/>
            <a:ext cx="9410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018D20-5F69-4EC1-9426-A77442D827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297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51519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5148CF-AA0B-4842-BB00-E0E47D50DB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012D6D-4D0B-4A8F-806C-5F683149CC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297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51519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29760" y="3918240"/>
            <a:ext cx="9410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0E2CD-71E1-46CE-A214-1764B209E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29760" y="457200"/>
            <a:ext cx="941076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05E6F5-73E3-434F-B9A6-61D8A928EA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297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51519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297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8DFFB4-4726-4163-B6FD-0FF52047F1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29760" y="1554120"/>
            <a:ext cx="459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51519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51519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81BA07-4CDB-41FB-8B46-BDD0F79C30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297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51519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29760" y="3918240"/>
            <a:ext cx="9410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4893D9-E968-43C7-AE5A-F987289598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29760" y="1554120"/>
            <a:ext cx="9410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29760" y="3918240"/>
            <a:ext cx="9410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E0B9B2-A6E6-4283-AD82-D069AA95A9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297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5151960" y="155412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297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5151960" y="3918240"/>
            <a:ext cx="459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517B36-BEF8-4460-9646-0EA42D1893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29760" y="155412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511800" y="155412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693840" y="155412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29760" y="391824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511800" y="391824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693840" y="3918240"/>
            <a:ext cx="3030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B3D9C0-B5F8-475C-B7A3-AAEC925ADD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0C62DE-A39A-4617-95E6-BDB903FD4A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29760" y="1554120"/>
            <a:ext cx="94107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0AA448-5897-4B05-B0D2-3C2F044D60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29760" y="1554120"/>
            <a:ext cx="9410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42F9FE-C797-48A2-BF95-8CE20323D49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ec9"/>
        </a:solidFill>
      </p:bgPr>
    </p:bg>
    <p:spTree>
      <p:nvGrpSpPr>
        <p:cNvPr id="1" name=""/>
        <p:cNvGrpSpPr/>
        <p:nvPr/>
      </p:nvGrpSpPr>
      <p:grpSpPr>
        <a:xfrm>
          <a:off x="0" y="0"/>
          <a:ext cx="0" cy="0"/>
          <a:chOff x="0" y="0"/>
          <a:chExt cx="0" cy="0"/>
        </a:xfrm>
      </p:grpSpPr>
      <p:grpSp>
        <p:nvGrpSpPr>
          <p:cNvPr id="0" name="Straight Connector 6"/>
          <p:cNvGrpSpPr/>
          <p:nvPr/>
        </p:nvGrpSpPr>
        <p:grpSpPr>
          <a:xfrm>
            <a:off x="549360" y="1036800"/>
            <a:ext cx="9362880" cy="29880"/>
            <a:chOff x="549360" y="1036800"/>
            <a:chExt cx="9362880" cy="29880"/>
          </a:xfrm>
        </p:grpSpPr>
        <p:pic>
          <p:nvPicPr>
            <p:cNvPr id="1" name="Straight Connector 6" descr=""/>
            <p:cNvPicPr/>
            <p:nvPr/>
          </p:nvPicPr>
          <p:blipFill>
            <a:blip r:embed="rId2"/>
            <a:stretch/>
          </p:blipFill>
          <p:spPr>
            <a:xfrm>
              <a:off x="549360" y="1036800"/>
              <a:ext cx="9362880" cy="29880"/>
            </a:xfrm>
            <a:prstGeom prst="rect">
              <a:avLst/>
            </a:prstGeom>
            <a:ln w="0">
              <a:noFill/>
            </a:ln>
          </p:spPr>
        </p:pic>
        <p:sp>
          <p:nvSpPr>
            <p:cNvPr id="2" name=""/>
            <p:cNvSpPr/>
            <p:nvPr/>
          </p:nvSpPr>
          <p:spPr>
            <a:xfrm>
              <a:off x="55728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29760" y="1554120"/>
            <a:ext cx="941076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7016400" y="76320"/>
            <a:ext cx="272412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Arial"/>
              </a:rPr>
              <a:t>&lt;date/time&gt;</a:t>
            </a:r>
            <a:endParaRPr b="0" lang="en-US" sz="1200" spc="-1" strike="noStrike">
              <a:solidFill>
                <a:srgbClr val="000000"/>
              </a:solidFill>
              <a:latin typeface="Arial"/>
            </a:endParaRPr>
          </a:p>
        </p:txBody>
      </p:sp>
      <p:sp>
        <p:nvSpPr>
          <p:cNvPr id="5" name="PlaceHolder 3"/>
          <p:cNvSpPr>
            <a:spLocks noGrp="1"/>
          </p:cNvSpPr>
          <p:nvPr>
            <p:ph type="ftr" idx="2"/>
          </p:nvPr>
        </p:nvSpPr>
        <p:spPr>
          <a:xfrm>
            <a:off x="3384360" y="76320"/>
            <a:ext cx="3632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915040" y="6476760"/>
            <a:ext cx="82548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B50F5-CB82-4116-B938-DA6C856B080F}" type="slidenum">
              <a:rPr b="0" lang="en-US" sz="1200" spc="-1" strike="noStrike">
                <a:solidFill>
                  <a:srgbClr val="d38e27"/>
                </a:solidFill>
                <a:latin typeface="Arial"/>
              </a:rPr>
              <a:t>&lt;number&gt;</a:t>
            </a:fld>
            <a:endParaRPr b="0" lang="en-US" sz="1200" spc="-1" strike="noStrike">
              <a:solidFill>
                <a:srgbClr val="000000"/>
              </a:solidFill>
              <a:latin typeface="Arial"/>
            </a:endParaRPr>
          </a:p>
        </p:txBody>
      </p:sp>
      <p:sp>
        <p:nvSpPr>
          <p:cNvPr id="7" name="PlaceHolder 5"/>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49360" y="1036800"/>
            <a:ext cx="9362880" cy="29880"/>
            <a:chOff x="549360" y="1036800"/>
            <a:chExt cx="9362880" cy="29880"/>
          </a:xfrm>
        </p:grpSpPr>
        <p:pic>
          <p:nvPicPr>
            <p:cNvPr id="9" name="Straight Connector 8" descr=""/>
            <p:cNvPicPr/>
            <p:nvPr/>
          </p:nvPicPr>
          <p:blipFill>
            <a:blip r:embed="rId3"/>
            <a:stretch/>
          </p:blipFill>
          <p:spPr>
            <a:xfrm>
              <a:off x="549360" y="1036800"/>
              <a:ext cx="9362880" cy="29880"/>
            </a:xfrm>
            <a:prstGeom prst="rect">
              <a:avLst/>
            </a:prstGeom>
            <a:ln w="0">
              <a:noFill/>
            </a:ln>
          </p:spPr>
        </p:pic>
        <p:sp>
          <p:nvSpPr>
            <p:cNvPr id="10" name=""/>
            <p:cNvSpPr/>
            <p:nvPr/>
          </p:nvSpPr>
          <p:spPr>
            <a:xfrm>
              <a:off x="55728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49360" y="1047600"/>
            <a:ext cx="9362880" cy="25560"/>
            <a:chOff x="549360" y="1047600"/>
            <a:chExt cx="9362880" cy="25560"/>
          </a:xfrm>
        </p:grpSpPr>
        <p:pic>
          <p:nvPicPr>
            <p:cNvPr id="12" name="Straight Connector 11" descr=""/>
            <p:cNvPicPr/>
            <p:nvPr/>
          </p:nvPicPr>
          <p:blipFill>
            <a:blip r:embed="rId4"/>
            <a:stretch/>
          </p:blipFill>
          <p:spPr>
            <a:xfrm>
              <a:off x="549360" y="1047600"/>
              <a:ext cx="9362880" cy="25560"/>
            </a:xfrm>
            <a:prstGeom prst="rect">
              <a:avLst/>
            </a:prstGeom>
            <a:ln w="0">
              <a:noFill/>
            </a:ln>
          </p:spPr>
        </p:pic>
        <p:sp>
          <p:nvSpPr>
            <p:cNvPr id="13" name=""/>
            <p:cNvSpPr/>
            <p:nvPr/>
          </p:nvSpPr>
          <p:spPr>
            <a:xfrm>
              <a:off x="55728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ec9"/>
        </a:solidFill>
      </p:bgPr>
    </p:bg>
    <p:spTree>
      <p:nvGrpSpPr>
        <p:cNvPr id="1" name=""/>
        <p:cNvGrpSpPr/>
        <p:nvPr/>
      </p:nvGrpSpPr>
      <p:grpSpPr>
        <a:xfrm>
          <a:off x="0" y="0"/>
          <a:ext cx="0" cy="0"/>
          <a:chOff x="0" y="0"/>
          <a:chExt cx="0" cy="0"/>
        </a:xfrm>
      </p:grpSpPr>
      <p:grpSp>
        <p:nvGrpSpPr>
          <p:cNvPr id="50" name="Straight Connector 12"/>
          <p:cNvGrpSpPr/>
          <p:nvPr/>
        </p:nvGrpSpPr>
        <p:grpSpPr>
          <a:xfrm>
            <a:off x="549360" y="5340240"/>
            <a:ext cx="9362880" cy="23760"/>
            <a:chOff x="549360" y="5340240"/>
            <a:chExt cx="9362880" cy="23760"/>
          </a:xfrm>
        </p:grpSpPr>
        <p:pic>
          <p:nvPicPr>
            <p:cNvPr id="51" name="Straight Connector 12" descr=""/>
            <p:cNvPicPr/>
            <p:nvPr/>
          </p:nvPicPr>
          <p:blipFill>
            <a:blip r:embed="rId2"/>
            <a:stretch/>
          </p:blipFill>
          <p:spPr>
            <a:xfrm>
              <a:off x="549360" y="5340240"/>
              <a:ext cx="9362880" cy="23760"/>
            </a:xfrm>
            <a:prstGeom prst="rect">
              <a:avLst/>
            </a:prstGeom>
            <a:ln w="0">
              <a:noFill/>
            </a:ln>
          </p:spPr>
        </p:pic>
        <p:sp>
          <p:nvSpPr>
            <p:cNvPr id="52" name=""/>
            <p:cNvSpPr/>
            <p:nvPr/>
          </p:nvSpPr>
          <p:spPr>
            <a:xfrm>
              <a:off x="55728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29760" y="1554120"/>
            <a:ext cx="941076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7016400" y="76320"/>
            <a:ext cx="272412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Arial"/>
              </a:rPr>
              <a:t>&lt;date/time&gt;</a:t>
            </a:r>
            <a:endParaRPr b="0" lang="en-US" sz="1200" spc="-1" strike="noStrike">
              <a:solidFill>
                <a:srgbClr val="000000"/>
              </a:solidFill>
              <a:latin typeface="Arial"/>
            </a:endParaRPr>
          </a:p>
        </p:txBody>
      </p:sp>
      <p:sp>
        <p:nvSpPr>
          <p:cNvPr id="56" name="PlaceHolder 4"/>
          <p:cNvSpPr>
            <a:spLocks noGrp="1"/>
          </p:cNvSpPr>
          <p:nvPr>
            <p:ph type="ftr" idx="5"/>
          </p:nvPr>
        </p:nvSpPr>
        <p:spPr>
          <a:xfrm>
            <a:off x="3384360" y="76320"/>
            <a:ext cx="3632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915400" y="6473880"/>
            <a:ext cx="82224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62852-E15F-4FAB-B179-B36C8F0C20D4}" type="slidenum">
              <a:rPr b="0" lang="en-US"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ec9"/>
        </a:solidFill>
      </p:bgPr>
    </p:bg>
    <p:spTree>
      <p:nvGrpSpPr>
        <p:cNvPr id="1" name=""/>
        <p:cNvGrpSpPr/>
        <p:nvPr/>
      </p:nvGrpSpPr>
      <p:grpSpPr>
        <a:xfrm>
          <a:off x="0" y="0"/>
          <a:ext cx="0" cy="0"/>
          <a:chOff x="0" y="0"/>
          <a:chExt cx="0" cy="0"/>
        </a:xfrm>
      </p:grpSpPr>
      <p:grpSp>
        <p:nvGrpSpPr>
          <p:cNvPr id="94" name="Straight Connector 6"/>
          <p:cNvGrpSpPr/>
          <p:nvPr/>
        </p:nvGrpSpPr>
        <p:grpSpPr>
          <a:xfrm>
            <a:off x="549360" y="1036800"/>
            <a:ext cx="9362880" cy="29880"/>
            <a:chOff x="549360" y="1036800"/>
            <a:chExt cx="9362880" cy="29880"/>
          </a:xfrm>
        </p:grpSpPr>
        <p:pic>
          <p:nvPicPr>
            <p:cNvPr id="95" name="Straight Connector 6" descr=""/>
            <p:cNvPicPr/>
            <p:nvPr/>
          </p:nvPicPr>
          <p:blipFill>
            <a:blip r:embed="rId2"/>
            <a:stretch/>
          </p:blipFill>
          <p:spPr>
            <a:xfrm>
              <a:off x="549360" y="1036800"/>
              <a:ext cx="9362880" cy="29880"/>
            </a:xfrm>
            <a:prstGeom prst="rect">
              <a:avLst/>
            </a:prstGeom>
            <a:ln w="0">
              <a:noFill/>
            </a:ln>
          </p:spPr>
        </p:pic>
        <p:sp>
          <p:nvSpPr>
            <p:cNvPr id="96" name=""/>
            <p:cNvSpPr/>
            <p:nvPr/>
          </p:nvSpPr>
          <p:spPr>
            <a:xfrm>
              <a:off x="55728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49360" y="1036800"/>
            <a:ext cx="9362880" cy="29880"/>
            <a:chOff x="549360" y="1036800"/>
            <a:chExt cx="9362880" cy="29880"/>
          </a:xfrm>
        </p:grpSpPr>
        <p:pic>
          <p:nvPicPr>
            <p:cNvPr id="98" name="Straight Connector 8" descr=""/>
            <p:cNvPicPr/>
            <p:nvPr/>
          </p:nvPicPr>
          <p:blipFill>
            <a:blip r:embed="rId3"/>
            <a:stretch/>
          </p:blipFill>
          <p:spPr>
            <a:xfrm>
              <a:off x="549360" y="1036800"/>
              <a:ext cx="9362880" cy="29880"/>
            </a:xfrm>
            <a:prstGeom prst="rect">
              <a:avLst/>
            </a:prstGeom>
            <a:ln w="0">
              <a:noFill/>
            </a:ln>
          </p:spPr>
        </p:pic>
        <p:sp>
          <p:nvSpPr>
            <p:cNvPr id="99" name=""/>
            <p:cNvSpPr/>
            <p:nvPr/>
          </p:nvSpPr>
          <p:spPr>
            <a:xfrm>
              <a:off x="55728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49360" y="1047600"/>
            <a:ext cx="9362880" cy="25560"/>
            <a:chOff x="549360" y="1047600"/>
            <a:chExt cx="9362880" cy="25560"/>
          </a:xfrm>
        </p:grpSpPr>
        <p:pic>
          <p:nvPicPr>
            <p:cNvPr id="101" name="Straight Connector 11" descr=""/>
            <p:cNvPicPr/>
            <p:nvPr/>
          </p:nvPicPr>
          <p:blipFill>
            <a:blip r:embed="rId4"/>
            <a:stretch/>
          </p:blipFill>
          <p:spPr>
            <a:xfrm>
              <a:off x="549360" y="1047600"/>
              <a:ext cx="9362880" cy="25560"/>
            </a:xfrm>
            <a:prstGeom prst="rect">
              <a:avLst/>
            </a:prstGeom>
            <a:ln w="0">
              <a:noFill/>
            </a:ln>
          </p:spPr>
        </p:pic>
        <p:sp>
          <p:nvSpPr>
            <p:cNvPr id="102" name=""/>
            <p:cNvSpPr/>
            <p:nvPr/>
          </p:nvSpPr>
          <p:spPr>
            <a:xfrm>
              <a:off x="55728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29760" y="1554120"/>
            <a:ext cx="941076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7016400" y="76320"/>
            <a:ext cx="272412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Arial"/>
              </a:rPr>
              <a:t>&lt;date/time&gt;</a:t>
            </a:r>
            <a:endParaRPr b="0" lang="en-US" sz="1200" spc="-1" strike="noStrike">
              <a:solidFill>
                <a:srgbClr val="000000"/>
              </a:solidFill>
              <a:latin typeface="Arial"/>
            </a:endParaRPr>
          </a:p>
        </p:txBody>
      </p:sp>
      <p:sp>
        <p:nvSpPr>
          <p:cNvPr id="106" name="PlaceHolder 4"/>
          <p:cNvSpPr>
            <a:spLocks noGrp="1"/>
          </p:cNvSpPr>
          <p:nvPr>
            <p:ph type="ftr" idx="8"/>
          </p:nvPr>
        </p:nvSpPr>
        <p:spPr>
          <a:xfrm>
            <a:off x="3879720" y="76320"/>
            <a:ext cx="3137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915400" y="6473880"/>
            <a:ext cx="82224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6AE3F-3CB9-4898-A6BC-026B4D58B1FD}" type="slidenum">
              <a:rPr b="0" lang="en-US"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ec9"/>
        </a:solidFill>
      </p:bgPr>
    </p:bg>
    <p:spTree>
      <p:nvGrpSpPr>
        <p:cNvPr id="1" name=""/>
        <p:cNvGrpSpPr/>
        <p:nvPr/>
      </p:nvGrpSpPr>
      <p:grpSpPr>
        <a:xfrm>
          <a:off x="0" y="0"/>
          <a:ext cx="0" cy="0"/>
          <a:chOff x="0" y="0"/>
          <a:chExt cx="0" cy="0"/>
        </a:xfrm>
      </p:grpSpPr>
      <p:grpSp>
        <p:nvGrpSpPr>
          <p:cNvPr id="144" name="Straight Connector 12"/>
          <p:cNvGrpSpPr/>
          <p:nvPr/>
        </p:nvGrpSpPr>
        <p:grpSpPr>
          <a:xfrm>
            <a:off x="549360" y="3432240"/>
            <a:ext cx="9362880" cy="23760"/>
            <a:chOff x="549360" y="3432240"/>
            <a:chExt cx="9362880" cy="23760"/>
          </a:xfrm>
        </p:grpSpPr>
        <p:pic>
          <p:nvPicPr>
            <p:cNvPr id="145" name="Straight Connector 12" descr=""/>
            <p:cNvPicPr/>
            <p:nvPr/>
          </p:nvPicPr>
          <p:blipFill>
            <a:blip r:embed="rId2"/>
            <a:stretch/>
          </p:blipFill>
          <p:spPr>
            <a:xfrm>
              <a:off x="549360" y="3432240"/>
              <a:ext cx="9362880" cy="23760"/>
            </a:xfrm>
            <a:prstGeom prst="rect">
              <a:avLst/>
            </a:prstGeom>
            <a:ln w="0">
              <a:noFill/>
            </a:ln>
          </p:spPr>
        </p:pic>
        <p:sp>
          <p:nvSpPr>
            <p:cNvPr id="146" name=""/>
            <p:cNvSpPr/>
            <p:nvPr/>
          </p:nvSpPr>
          <p:spPr>
            <a:xfrm>
              <a:off x="55728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29760" y="1554120"/>
            <a:ext cx="941076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48" name="PlaceHolder 2"/>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49" name="PlaceHolder 3"/>
          <p:cNvSpPr>
            <a:spLocks noGrp="1"/>
          </p:cNvSpPr>
          <p:nvPr>
            <p:ph type="dt" idx="10"/>
          </p:nvPr>
        </p:nvSpPr>
        <p:spPr>
          <a:xfrm>
            <a:off x="7016400" y="76320"/>
            <a:ext cx="272412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Arial"/>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3384360" y="76320"/>
            <a:ext cx="3632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915040" y="6476760"/>
            <a:ext cx="82548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83FC3-FA2F-4AE3-A08E-BF57930D7A57}" type="slidenum">
              <a:rPr b="0" lang="en-US"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ec9"/>
        </a:solidFill>
      </p:bgPr>
    </p:bg>
    <p:spTree>
      <p:nvGrpSpPr>
        <p:cNvPr id="1" name=""/>
        <p:cNvGrpSpPr/>
        <p:nvPr/>
      </p:nvGrpSpPr>
      <p:grpSpPr>
        <a:xfrm>
          <a:off x="0" y="0"/>
          <a:ext cx="0" cy="0"/>
          <a:chOff x="0" y="0"/>
          <a:chExt cx="0" cy="0"/>
        </a:xfrm>
      </p:grpSpPr>
      <p:grpSp>
        <p:nvGrpSpPr>
          <p:cNvPr id="188" name="Straight Connector 12"/>
          <p:cNvGrpSpPr/>
          <p:nvPr/>
        </p:nvGrpSpPr>
        <p:grpSpPr>
          <a:xfrm>
            <a:off x="549360" y="6010200"/>
            <a:ext cx="9362880" cy="25560"/>
            <a:chOff x="549360" y="6010200"/>
            <a:chExt cx="9362880" cy="25560"/>
          </a:xfrm>
        </p:grpSpPr>
        <p:pic>
          <p:nvPicPr>
            <p:cNvPr id="189" name="Straight Connector 12" descr=""/>
            <p:cNvPicPr/>
            <p:nvPr/>
          </p:nvPicPr>
          <p:blipFill>
            <a:blip r:embed="rId2"/>
            <a:stretch/>
          </p:blipFill>
          <p:spPr>
            <a:xfrm>
              <a:off x="549360" y="6010200"/>
              <a:ext cx="9362880" cy="25560"/>
            </a:xfrm>
            <a:prstGeom prst="rect">
              <a:avLst/>
            </a:prstGeom>
            <a:ln w="0">
              <a:noFill/>
            </a:ln>
          </p:spPr>
        </p:pic>
        <p:sp>
          <p:nvSpPr>
            <p:cNvPr id="190" name=""/>
            <p:cNvSpPr/>
            <p:nvPr/>
          </p:nvSpPr>
          <p:spPr>
            <a:xfrm>
              <a:off x="55728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29760" y="1554120"/>
            <a:ext cx="941076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7016400" y="76320"/>
            <a:ext cx="272412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Arial"/>
              </a:rPr>
              <a:t>&lt;date/time&gt;</a:t>
            </a:r>
            <a:endParaRPr b="0" lang="en-US" sz="1200" spc="-1" strike="noStrike">
              <a:solidFill>
                <a:srgbClr val="000000"/>
              </a:solidFill>
              <a:latin typeface="Arial"/>
            </a:endParaRPr>
          </a:p>
        </p:txBody>
      </p:sp>
      <p:sp>
        <p:nvSpPr>
          <p:cNvPr id="194" name="PlaceHolder 4"/>
          <p:cNvSpPr>
            <a:spLocks noGrp="1"/>
          </p:cNvSpPr>
          <p:nvPr>
            <p:ph type="ftr" idx="14"/>
          </p:nvPr>
        </p:nvSpPr>
        <p:spPr>
          <a:xfrm>
            <a:off x="3384360" y="76320"/>
            <a:ext cx="3632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915040" y="6477120"/>
            <a:ext cx="8254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B48D8-7C3E-4AF3-98DA-AEE36A612DF1}" type="slidenum">
              <a:rPr b="0" lang="en-US"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ec9"/>
        </a:solid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29760" y="1554120"/>
            <a:ext cx="941076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7016400" y="76320"/>
            <a:ext cx="272412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Arial"/>
              </a:rPr>
              <a:t>&lt;date/time&gt;</a:t>
            </a:r>
            <a:endParaRPr b="0" lang="en-US" sz="1200" spc="-1" strike="noStrike">
              <a:solidFill>
                <a:srgbClr val="000000"/>
              </a:solidFill>
              <a:latin typeface="Arial"/>
            </a:endParaRPr>
          </a:p>
        </p:txBody>
      </p:sp>
      <p:sp>
        <p:nvSpPr>
          <p:cNvPr id="235" name="PlaceHolder 4"/>
          <p:cNvSpPr>
            <a:spLocks noGrp="1"/>
          </p:cNvSpPr>
          <p:nvPr>
            <p:ph type="ftr" idx="17"/>
          </p:nvPr>
        </p:nvSpPr>
        <p:spPr>
          <a:xfrm>
            <a:off x="3384360" y="76320"/>
            <a:ext cx="3632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915040" y="6476760"/>
            <a:ext cx="82548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6BBA8-396C-4B03-B653-FC386D95C6B5}" type="slidenum">
              <a:rPr b="0" lang="en-US"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ec9"/>
        </a:solidFill>
      </p:bgPr>
    </p:bg>
    <p:spTree>
      <p:nvGrpSpPr>
        <p:cNvPr id="1" name=""/>
        <p:cNvGrpSpPr/>
        <p:nvPr/>
      </p:nvGrpSpPr>
      <p:grpSpPr>
        <a:xfrm>
          <a:off x="0" y="0"/>
          <a:ext cx="0" cy="0"/>
          <a:chOff x="0" y="0"/>
          <a:chExt cx="0" cy="0"/>
        </a:xfrm>
      </p:grpSpPr>
      <p:grpSp>
        <p:nvGrpSpPr>
          <p:cNvPr id="273" name="Straight Connector 12"/>
          <p:cNvGrpSpPr/>
          <p:nvPr/>
        </p:nvGrpSpPr>
        <p:grpSpPr>
          <a:xfrm>
            <a:off x="549360" y="5840280"/>
            <a:ext cx="9362880" cy="24120"/>
            <a:chOff x="549360" y="5840280"/>
            <a:chExt cx="9362880" cy="24120"/>
          </a:xfrm>
        </p:grpSpPr>
        <p:pic>
          <p:nvPicPr>
            <p:cNvPr id="274" name="Straight Connector 12" descr=""/>
            <p:cNvPicPr/>
            <p:nvPr/>
          </p:nvPicPr>
          <p:blipFill>
            <a:blip r:embed="rId2"/>
            <a:stretch/>
          </p:blipFill>
          <p:spPr>
            <a:xfrm>
              <a:off x="549360" y="5840280"/>
              <a:ext cx="9362880" cy="24120"/>
            </a:xfrm>
            <a:prstGeom prst="rect">
              <a:avLst/>
            </a:prstGeom>
            <a:ln w="0">
              <a:noFill/>
            </a:ln>
          </p:spPr>
        </p:pic>
        <p:sp>
          <p:nvSpPr>
            <p:cNvPr id="275" name=""/>
            <p:cNvSpPr/>
            <p:nvPr/>
          </p:nvSpPr>
          <p:spPr>
            <a:xfrm>
              <a:off x="55728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29760" y="1554120"/>
            <a:ext cx="941076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7016400" y="76320"/>
            <a:ext cx="272412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Arial"/>
              </a:rPr>
              <a:t>&lt;date/time&gt;</a:t>
            </a:r>
            <a:endParaRPr b="0" lang="en-US" sz="1200" spc="-1" strike="noStrike">
              <a:solidFill>
                <a:srgbClr val="000000"/>
              </a:solidFill>
              <a:latin typeface="Arial"/>
            </a:endParaRPr>
          </a:p>
        </p:txBody>
      </p:sp>
      <p:sp>
        <p:nvSpPr>
          <p:cNvPr id="279" name="PlaceHolder 4"/>
          <p:cNvSpPr>
            <a:spLocks noGrp="1"/>
          </p:cNvSpPr>
          <p:nvPr>
            <p:ph type="ftr" idx="20"/>
          </p:nvPr>
        </p:nvSpPr>
        <p:spPr>
          <a:xfrm>
            <a:off x="3384360" y="76320"/>
            <a:ext cx="3632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915040" y="6476760"/>
            <a:ext cx="82548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D5429-CCAB-4E58-B8F4-B1F5CFF4C8F7}" type="slidenum">
              <a:rPr b="0" lang="en-US"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ec9"/>
        </a:solid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29760" y="1554120"/>
            <a:ext cx="941076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7016400" y="76320"/>
            <a:ext cx="272412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Arial"/>
              </a:rPr>
              <a:t>&lt;date/time&gt;</a:t>
            </a:r>
            <a:endParaRPr b="0" lang="en-US" sz="1200" spc="-1" strike="noStrike">
              <a:solidFill>
                <a:srgbClr val="000000"/>
              </a:solidFill>
              <a:latin typeface="Arial"/>
            </a:endParaRPr>
          </a:p>
        </p:txBody>
      </p:sp>
      <p:sp>
        <p:nvSpPr>
          <p:cNvPr id="320" name="PlaceHolder 4"/>
          <p:cNvSpPr>
            <a:spLocks noGrp="1"/>
          </p:cNvSpPr>
          <p:nvPr>
            <p:ph type="ftr" idx="23"/>
          </p:nvPr>
        </p:nvSpPr>
        <p:spPr>
          <a:xfrm>
            <a:off x="3384360" y="76320"/>
            <a:ext cx="3632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915040" y="6476760"/>
            <a:ext cx="82548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75B73-7C66-4F07-B51E-9FDB414716C9}" type="slidenum">
              <a:rPr b="0" lang="en-US"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ec9"/>
        </a:solid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29760" y="1554120"/>
            <a:ext cx="941076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29760" y="457200"/>
            <a:ext cx="9410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7016400" y="76320"/>
            <a:ext cx="272412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Arial"/>
              </a:rPr>
              <a:t>&lt;date/time&gt;</a:t>
            </a:r>
            <a:endParaRPr b="0" lang="en-US" sz="1200" spc="-1" strike="noStrike">
              <a:solidFill>
                <a:srgbClr val="000000"/>
              </a:solidFill>
              <a:latin typeface="Arial"/>
            </a:endParaRPr>
          </a:p>
        </p:txBody>
      </p:sp>
      <p:sp>
        <p:nvSpPr>
          <p:cNvPr id="361" name="PlaceHolder 4"/>
          <p:cNvSpPr>
            <a:spLocks noGrp="1"/>
          </p:cNvSpPr>
          <p:nvPr>
            <p:ph type="ftr" idx="26"/>
          </p:nvPr>
        </p:nvSpPr>
        <p:spPr>
          <a:xfrm>
            <a:off x="3384360" y="76320"/>
            <a:ext cx="3632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915040" y="6476760"/>
            <a:ext cx="82548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7B83D-D93E-4DA7-A480-6E851CC9AADD}" type="slidenum">
              <a:rPr b="0" lang="en-US"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prasindh.gov.pk/" TargetMode="External"/><Relationship Id="rId2" Type="http://schemas.openxmlformats.org/officeDocument/2006/relationships/hyperlink" Target="http://www.sindh.gov.pk/"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60" y="-152640"/>
            <a:ext cx="9906120" cy="1143000"/>
          </a:xfrm>
          <a:prstGeom prst="rect">
            <a:avLst/>
          </a:prstGeom>
          <a:solidFill>
            <a:srgbClr val="002060"/>
          </a:solidFill>
          <a:ln w="10080">
            <a:solidFill>
              <a:srgbClr val="a5644e"/>
            </a:solidFill>
            <a:miter/>
          </a:ln>
          <a:effectLst>
            <a:outerShdw dist="50760" dir="5400000" blurRad="0" rotWithShape="0">
              <a:srgbClr val="4e3b30">
                <a:alpha val="60000"/>
              </a:srgbClr>
            </a:outerShdw>
          </a:effectLst>
        </p:spPr>
        <p:txBody>
          <a:bodyPr lIns="90000" rIns="90000" tIns="46800" bIns="46800" anchor="ctr">
            <a:noAutofit/>
          </a:bodyPr>
          <a:p>
            <a:pPr indent="0" algn="ctr">
              <a:lnSpc>
                <a:spcPct val="100000"/>
              </a:lnSpc>
              <a:buNone/>
              <a:tabLst>
                <a:tab algn="l" pos="0"/>
                <a:tab algn="l" pos="354348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ffffff"/>
                </a:solidFill>
                <a:latin typeface="Cambria"/>
              </a:rPr>
              <a:t> </a:t>
            </a:r>
            <a:r>
              <a:rPr b="1" lang="en-US" sz="1400" spc="-1" strike="noStrike">
                <a:solidFill>
                  <a:srgbClr val="ffffff"/>
                </a:solidFill>
                <a:latin typeface="Cambria"/>
              </a:rPr>
              <a:t>GOVERNMENT OF SINDH </a:t>
            </a:r>
            <a:br>
              <a:rPr sz="1400"/>
            </a:br>
            <a:r>
              <a:rPr b="1" lang="en-US" sz="1400" spc="-1" strike="noStrike">
                <a:solidFill>
                  <a:srgbClr val="ffffff"/>
                </a:solidFill>
                <a:latin typeface="Cambria"/>
              </a:rPr>
              <a:t>INFORMATION, SCIENCE &amp; TECHNOLOGY DEPARTMENT</a:t>
            </a:r>
            <a:br>
              <a:rPr sz="1400"/>
            </a:br>
            <a:r>
              <a:rPr b="1" lang="en-US" sz="1800" spc="-1" strike="noStrike">
                <a:solidFill>
                  <a:srgbClr val="ffffff"/>
                </a:solidFill>
                <a:latin typeface="Cambria"/>
              </a:rPr>
              <a:t>REQUEST FOR PROPOSAL </a:t>
            </a:r>
            <a:br>
              <a:rPr sz="1800"/>
            </a:br>
            <a:r>
              <a:rPr b="1" lang="en-US" sz="1600" spc="-1" strike="noStrike">
                <a:solidFill>
                  <a:srgbClr val="ffffff"/>
                </a:solidFill>
                <a:latin typeface="Cambria"/>
              </a:rPr>
              <a:t>TRANSACTION ADVISORY SERVICES</a:t>
            </a:r>
            <a:endParaRPr b="0" lang="en-US" sz="1600" spc="-1" strike="noStrike">
              <a:solidFill>
                <a:srgbClr val="4e3b30"/>
              </a:solidFill>
              <a:latin typeface="Franklin Gothic Medium"/>
            </a:endParaRPr>
          </a:p>
        </p:txBody>
      </p:sp>
      <p:sp>
        <p:nvSpPr>
          <p:cNvPr id="400" name=""/>
          <p:cNvSpPr txBox="1"/>
          <p:nvPr/>
        </p:nvSpPr>
        <p:spPr>
          <a:xfrm>
            <a:off x="21960" y="1160640"/>
            <a:ext cx="5105160" cy="3519360"/>
          </a:xfrm>
          <a:prstGeom prst="rect">
            <a:avLst/>
          </a:prstGeom>
          <a:noFill/>
          <a:ln w="0">
            <a:noFill/>
          </a:ln>
        </p:spPr>
        <p:txBody>
          <a:bodyPr anchor="t">
            <a:normAutofit fontScale="92000"/>
          </a:bodyPr>
          <a:p>
            <a:pPr algn="just">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4e3b30"/>
                </a:solidFill>
                <a:uFillTx/>
                <a:latin typeface="Franklin Gothic Medium"/>
              </a:rPr>
              <a:t>The Assignment</a:t>
            </a:r>
            <a:endParaRPr b="0" lang="en-US" sz="1300" spc="-1" strike="noStrike">
              <a:solidFill>
                <a:srgbClr val="4e3b30"/>
              </a:solidFill>
              <a:latin typeface="Franklin Gothic Book"/>
            </a:endParaRPr>
          </a:p>
          <a:p>
            <a:pPr algn="just">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e3b30"/>
                </a:solidFill>
                <a:latin typeface="Franklin Gothic Book"/>
              </a:rPr>
              <a:t>The Information, Science &amp; Technology Department, Government of Sindh, invites proposals from reputable and experienced firm(s)/consortia to prepare a Feasibility Report covering technical, financial, economic, legal and environmental aspects along-with Transaction Advisory Services for the Domicile &amp; permanent resident certificate (PRC) Automation project.</a:t>
            </a:r>
            <a:endParaRPr b="0" lang="en-US" sz="1300" spc="-1" strike="noStrike">
              <a:solidFill>
                <a:srgbClr val="4e3b30"/>
              </a:solidFill>
              <a:latin typeface="Franklin Gothic Book"/>
            </a:endParaRPr>
          </a:p>
          <a:p>
            <a:pPr algn="just">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e3b30"/>
                </a:solidFill>
                <a:latin typeface="Franklin Gothic Book"/>
              </a:rPr>
              <a:t>The existing process of domicile and PRC is paper based, time consuming and cumbersome. The Domicile &amp; PRC Automation project will help share Government of Sindh’s IT vision with the IT industry and general public. The project will bring many benefits and convenience to general public in issuance of computerized domicile and PRC. Further details are provided in the Request for Proposal (RFP).</a:t>
            </a:r>
            <a:endParaRPr b="0" lang="en-US" sz="1300" spc="-1" strike="noStrike">
              <a:solidFill>
                <a:srgbClr val="4e3b30"/>
              </a:solidFill>
              <a:latin typeface="Franklin Gothic Book"/>
            </a:endParaRPr>
          </a:p>
          <a:p>
            <a:pPr algn="just">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e3b30"/>
                </a:solidFill>
                <a:latin typeface="Franklin Gothic Book"/>
              </a:rPr>
              <a:t>Interested firm(s)/consortia need to furnish relevant documents pursuant to the RFP to demonstrate experience and expertise to undertake the Transaction Advisory for Domicile &amp; PRC Automation project.</a:t>
            </a:r>
            <a:endParaRPr b="0" lang="en-US" sz="1300" spc="-1" strike="noStrike">
              <a:solidFill>
                <a:srgbClr val="4e3b30"/>
              </a:solidFill>
              <a:latin typeface="Franklin Gothic Book"/>
            </a:endParaRPr>
          </a:p>
        </p:txBody>
      </p:sp>
      <p:sp>
        <p:nvSpPr>
          <p:cNvPr id="401" name=""/>
          <p:cNvSpPr txBox="1"/>
          <p:nvPr/>
        </p:nvSpPr>
        <p:spPr>
          <a:xfrm>
            <a:off x="5073120" y="1246320"/>
            <a:ext cx="4805640" cy="561168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Franklin Gothic Medium"/>
              </a:rPr>
              <a:t>Eligibility:</a:t>
            </a:r>
            <a:r>
              <a:rPr b="0" lang="en-US" sz="1300" spc="-1" strike="noStrike">
                <a:solidFill>
                  <a:srgbClr val="000000"/>
                </a:solidFill>
                <a:latin typeface="Franklin Gothic Medium"/>
              </a:rPr>
              <a:t> Registration with Sindh Revenue Board (SRB), relevant tax authorities and relevant professional body (PEC) and other relevant as given in the RFP.</a:t>
            </a:r>
            <a:endParaRPr b="0" lang="en-US" sz="1300" spc="-1" strike="noStrike">
              <a:solidFill>
                <a:srgbClr val="4e3b3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Franklin Gothic Book"/>
              </a:rPr>
              <a:t>Bid Security:</a:t>
            </a:r>
            <a:r>
              <a:rPr b="0" lang="en-US" sz="1300" spc="-1" strike="noStrike">
                <a:solidFill>
                  <a:srgbClr val="000000"/>
                </a:solidFill>
                <a:latin typeface="Franklin Gothic Book"/>
              </a:rPr>
              <a:t> 2% of bid price</a:t>
            </a:r>
            <a:endParaRPr b="0" lang="en-US" sz="1300" spc="-1" strike="noStrike">
              <a:solidFill>
                <a:srgbClr val="4e3b3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Franklin Gothic Book"/>
              </a:rPr>
              <a:t>Bid Validity Period:</a:t>
            </a:r>
            <a:r>
              <a:rPr b="0" lang="en-US" sz="1300" spc="-1" strike="noStrike">
                <a:solidFill>
                  <a:srgbClr val="000000"/>
                </a:solidFill>
                <a:latin typeface="Franklin Gothic Book"/>
              </a:rPr>
              <a:t> 90 days </a:t>
            </a:r>
            <a:endParaRPr b="0" lang="en-US" sz="1300" spc="-1" strike="noStrike">
              <a:solidFill>
                <a:srgbClr val="4e3b3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Franklin Gothic Book"/>
              </a:rPr>
              <a:t>Response Time: </a:t>
            </a:r>
            <a:r>
              <a:rPr b="0" lang="en-US" sz="1300" spc="-1" strike="noStrike">
                <a:solidFill>
                  <a:srgbClr val="000000"/>
                </a:solidFill>
                <a:latin typeface="Franklin Gothic Book"/>
              </a:rPr>
              <a:t>From issuance of bidding documents to June 29, 2016 </a:t>
            </a:r>
            <a:endParaRPr b="0" lang="en-US" sz="1300" spc="-1" strike="noStrike">
              <a:solidFill>
                <a:srgbClr val="4e3b3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Franklin Gothic Book"/>
              </a:rPr>
              <a:t>Pre-Bid Meeting:</a:t>
            </a:r>
            <a:r>
              <a:rPr b="0" lang="en-US" sz="1300" spc="-1" strike="noStrike">
                <a:solidFill>
                  <a:srgbClr val="000000"/>
                </a:solidFill>
                <a:latin typeface="Franklin Gothic Book"/>
              </a:rPr>
              <a:t> June 14, 2016 at 11.00 a.m. in the Committee Room of Information, Science &amp; Technology Department, Building No. 6, Sindh Secretariat, Karachi.</a:t>
            </a:r>
            <a:endParaRPr b="0" lang="en-US" sz="1300" spc="-1" strike="noStrike">
              <a:solidFill>
                <a:srgbClr val="4e3b3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Franklin Gothic Book"/>
              </a:rPr>
              <a:t>Bid Submission Deadline:</a:t>
            </a:r>
            <a:r>
              <a:rPr b="0" lang="en-US" sz="1300" spc="-1" strike="noStrike">
                <a:solidFill>
                  <a:srgbClr val="000000"/>
                </a:solidFill>
                <a:latin typeface="Franklin Gothic Book"/>
              </a:rPr>
              <a:t> June 30, 2016 at 11:00 a.m. </a:t>
            </a:r>
            <a:endParaRPr b="0" lang="en-US" sz="1300" spc="-1" strike="noStrike">
              <a:solidFill>
                <a:srgbClr val="4e3b3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Franklin Gothic Book"/>
              </a:rPr>
              <a:t>Bid Opening:</a:t>
            </a:r>
            <a:r>
              <a:rPr b="0" lang="en-US" sz="1300" spc="-1" strike="noStrike">
                <a:solidFill>
                  <a:srgbClr val="000000"/>
                </a:solidFill>
                <a:latin typeface="Franklin Gothic Book"/>
              </a:rPr>
              <a:t> June 30, 2016 at 12:00 p.m. </a:t>
            </a:r>
            <a:endParaRPr b="0" lang="en-US" sz="1300" spc="-1" strike="noStrike">
              <a:solidFill>
                <a:srgbClr val="4e3b3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Franklin Gothic Book"/>
              </a:rPr>
              <a:t>Bid Submission and Opening Address:</a:t>
            </a:r>
            <a:r>
              <a:rPr b="1" lang="en-US" sz="1300" spc="-1" strike="noStrike">
                <a:solidFill>
                  <a:srgbClr val="000000"/>
                </a:solidFill>
                <a:latin typeface="Franklin Gothic Book"/>
              </a:rPr>
              <a:t> </a:t>
            </a:r>
            <a:r>
              <a:rPr b="0" lang="en-US" sz="1300" spc="-1" strike="noStrike">
                <a:solidFill>
                  <a:srgbClr val="000000"/>
                </a:solidFill>
                <a:latin typeface="Franklin Gothic Book"/>
              </a:rPr>
              <a:t>Deputy Director, Information, Science &amp; Technology Department, Building No. 6, Kamal Atta-Turk Road, Sindh Secretariat, Karachi.</a:t>
            </a:r>
            <a:endParaRPr b="0" lang="en-US" sz="1300" spc="-1" strike="noStrike">
              <a:solidFill>
                <a:srgbClr val="4e3b3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Franklin Gothic Book"/>
              </a:rPr>
              <a:t>Bidding Documents:</a:t>
            </a:r>
            <a:r>
              <a:rPr b="0" lang="en-US" sz="1300" spc="-1" strike="noStrike">
                <a:solidFill>
                  <a:srgbClr val="000000"/>
                </a:solidFill>
                <a:latin typeface="Franklin Gothic Book"/>
              </a:rPr>
              <a:t>  The RFP document shall be available to download (free of cost) on the below mentioned website:</a:t>
            </a:r>
            <a:endParaRPr b="0" lang="en-US" sz="1300" spc="-1" strike="noStrike">
              <a:solidFill>
                <a:srgbClr val="4e3b30"/>
              </a:solidFill>
              <a:latin typeface="Franklin Gothic Book"/>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ad1f1f"/>
                </a:solidFill>
                <a:uFillTx/>
                <a:latin typeface="Calibri"/>
                <a:hlinkClick r:id="rId1"/>
              </a:rPr>
              <a:t>www.pprasindh.gov.pk</a:t>
            </a:r>
            <a:r>
              <a:rPr b="0" lang="en-US" sz="1300" spc="-1" strike="noStrike">
                <a:solidFill>
                  <a:srgbClr val="000000"/>
                </a:solidFill>
                <a:latin typeface="Calibri"/>
              </a:rPr>
              <a:t> and </a:t>
            </a:r>
            <a:r>
              <a:rPr b="0" lang="en-US" sz="1300" spc="-1" strike="noStrike" u="sng">
                <a:solidFill>
                  <a:srgbClr val="ad1f1f"/>
                </a:solidFill>
                <a:uFillTx/>
                <a:latin typeface="Calibri"/>
                <a:hlinkClick r:id="rId2"/>
              </a:rPr>
              <a:t>www.Sindh.gov.pk</a:t>
            </a:r>
            <a:endParaRPr b="0" lang="en-US" sz="1300" spc="-1" strike="noStrike">
              <a:solidFill>
                <a:srgbClr val="4e3b3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ranklin Gothic Book"/>
              </a:rPr>
              <a:t>Late proposals shall be rejected. </a:t>
            </a:r>
            <a:endParaRPr b="0" lang="en-US" sz="1300" spc="-1" strike="noStrike">
              <a:solidFill>
                <a:srgbClr val="4e3b3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e3b3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Franklin Gothic Book"/>
              </a:rPr>
              <a:t>For Further Information</a:t>
            </a:r>
            <a:endParaRPr b="0" lang="en-US" sz="1300" spc="-1" strike="noStrike">
              <a:solidFill>
                <a:srgbClr val="4e3b3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ranklin Gothic Book"/>
              </a:rPr>
              <a:t>Mr. Mutiullah Shaikh</a:t>
            </a:r>
            <a:r>
              <a:rPr b="0" lang="en-US" sz="1300" spc="-1" strike="noStrike">
                <a:solidFill>
                  <a:srgbClr val="000000"/>
                </a:solidFill>
                <a:latin typeface="Franklin Gothic Book"/>
              </a:rPr>
              <a:t>	</a:t>
            </a:r>
            <a:r>
              <a:rPr b="0" lang="en-US" sz="1300" spc="-1" strike="noStrike">
                <a:solidFill>
                  <a:srgbClr val="000000"/>
                </a:solidFill>
                <a:latin typeface="Franklin Gothic Book"/>
              </a:rPr>
              <a:t>	</a:t>
            </a:r>
            <a:r>
              <a:rPr b="0" lang="en-US" sz="1300" spc="-1" strike="noStrike">
                <a:solidFill>
                  <a:srgbClr val="000000"/>
                </a:solidFill>
                <a:latin typeface="Franklin Gothic Book"/>
              </a:rPr>
              <a:t>Mr. Fahad Ansari</a:t>
            </a:r>
            <a:endParaRPr b="0" lang="en-US" sz="1300" spc="-1" strike="noStrike">
              <a:solidFill>
                <a:srgbClr val="4e3b3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ranklin Gothic Book"/>
              </a:rPr>
              <a:t>Project Manager, </a:t>
            </a:r>
            <a:r>
              <a:rPr b="0" lang="en-US" sz="1300" spc="-1" strike="noStrike">
                <a:solidFill>
                  <a:srgbClr val="000000"/>
                </a:solidFill>
                <a:latin typeface="Franklin Gothic Book"/>
              </a:rPr>
              <a:t>	</a:t>
            </a:r>
            <a:r>
              <a:rPr b="0" lang="en-US" sz="1300" spc="-1" strike="noStrike">
                <a:solidFill>
                  <a:srgbClr val="000000"/>
                </a:solidFill>
                <a:latin typeface="Franklin Gothic Book"/>
              </a:rPr>
              <a:t>	</a:t>
            </a:r>
            <a:r>
              <a:rPr b="0" lang="en-US" sz="1300" spc="-1" strike="noStrike">
                <a:solidFill>
                  <a:srgbClr val="000000"/>
                </a:solidFill>
                <a:latin typeface="Franklin Gothic Book"/>
              </a:rPr>
              <a:t>Director, PPP Unit,</a:t>
            </a:r>
            <a:endParaRPr b="0" lang="en-US" sz="1300" spc="-1" strike="noStrike">
              <a:solidFill>
                <a:srgbClr val="4e3b3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ranklin Gothic Book"/>
              </a:rPr>
              <a:t>Domicile Project,</a:t>
            </a:r>
            <a:r>
              <a:rPr b="0" lang="en-US" sz="1300" spc="-1" strike="noStrike">
                <a:solidFill>
                  <a:srgbClr val="000000"/>
                </a:solidFill>
                <a:latin typeface="Franklin Gothic Book"/>
              </a:rPr>
              <a:t>	</a:t>
            </a:r>
            <a:r>
              <a:rPr b="0" lang="en-US" sz="1300" spc="-1" strike="noStrike">
                <a:solidFill>
                  <a:srgbClr val="000000"/>
                </a:solidFill>
                <a:latin typeface="Franklin Gothic Book"/>
              </a:rPr>
              <a:t>	</a:t>
            </a:r>
            <a:r>
              <a:rPr b="0" lang="en-US" sz="1300" spc="-1" strike="noStrike">
                <a:solidFill>
                  <a:srgbClr val="000000"/>
                </a:solidFill>
                <a:latin typeface="Franklin Gothic Book"/>
              </a:rPr>
              <a:t>Finance Department</a:t>
            </a:r>
            <a:endParaRPr b="0" lang="en-US" sz="1300" spc="-1" strike="noStrike">
              <a:solidFill>
                <a:srgbClr val="4e3b3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ranklin Gothic Book"/>
              </a:rPr>
              <a:t>IST Department</a:t>
            </a:r>
            <a:r>
              <a:rPr b="0" lang="en-US" sz="1300" spc="-1" strike="noStrike">
                <a:solidFill>
                  <a:srgbClr val="000000"/>
                </a:solidFill>
                <a:latin typeface="Franklin Gothic Book"/>
              </a:rPr>
              <a:t>	</a:t>
            </a:r>
            <a:r>
              <a:rPr b="0" lang="en-US" sz="1300" spc="-1" strike="noStrike">
                <a:solidFill>
                  <a:srgbClr val="000000"/>
                </a:solidFill>
                <a:latin typeface="Franklin Gothic Book"/>
              </a:rPr>
              <a:t>	</a:t>
            </a:r>
            <a:r>
              <a:rPr b="0" lang="en-US" sz="1300" spc="-1" strike="noStrike">
                <a:solidFill>
                  <a:srgbClr val="000000"/>
                </a:solidFill>
                <a:latin typeface="Franklin Gothic Book"/>
              </a:rPr>
              <a:t>Government of Sindh</a:t>
            </a:r>
            <a:endParaRPr b="0" lang="en-US" sz="1300" spc="-1" strike="noStrike">
              <a:solidFill>
                <a:srgbClr val="4e3b3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ranklin Gothic Book"/>
              </a:rPr>
              <a:t>Government of Sindh</a:t>
            </a:r>
            <a:r>
              <a:rPr b="0" lang="en-US" sz="1300" spc="-1" strike="noStrike">
                <a:solidFill>
                  <a:srgbClr val="000000"/>
                </a:solidFill>
                <a:latin typeface="Franklin Gothic Book"/>
              </a:rPr>
              <a:t>	</a:t>
            </a:r>
            <a:r>
              <a:rPr b="0" lang="en-US" sz="1300" spc="-1" strike="noStrike">
                <a:solidFill>
                  <a:srgbClr val="000000"/>
                </a:solidFill>
                <a:latin typeface="Franklin Gothic Book"/>
              </a:rPr>
              <a:t>	</a:t>
            </a:r>
            <a:r>
              <a:rPr b="0" lang="en-US" sz="1300" spc="-1" strike="noStrike">
                <a:solidFill>
                  <a:srgbClr val="000000"/>
                </a:solidFill>
                <a:latin typeface="Franklin Gothic Book"/>
              </a:rPr>
              <a:t>Phone: 021-99222193</a:t>
            </a:r>
            <a:endParaRPr b="0" lang="en-US" sz="1300" spc="-1" strike="noStrike">
              <a:solidFill>
                <a:srgbClr val="4e3b3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ranklin Gothic Book"/>
              </a:rPr>
              <a:t>Phone: 021-99213406</a:t>
            </a:r>
            <a:r>
              <a:rPr b="0" lang="en-US" sz="1300" spc="-1" strike="noStrike">
                <a:solidFill>
                  <a:srgbClr val="000000"/>
                </a:solidFill>
                <a:latin typeface="Franklin Gothic Book"/>
              </a:rPr>
              <a:t>	</a:t>
            </a:r>
            <a:r>
              <a:rPr b="0" lang="en-US" sz="1300" spc="-1" strike="noStrike">
                <a:solidFill>
                  <a:srgbClr val="000000"/>
                </a:solidFill>
                <a:latin typeface="Franklin Gothic Book"/>
              </a:rPr>
              <a:t>	</a:t>
            </a:r>
            <a:endParaRPr b="0" lang="en-US" sz="1300" spc="-1" strike="noStrike">
              <a:solidFill>
                <a:srgbClr val="4e3b30"/>
              </a:solidFill>
              <a:latin typeface="Franklin Gothic Book"/>
            </a:endParaRPr>
          </a:p>
        </p:txBody>
      </p:sp>
      <p:sp>
        <p:nvSpPr>
          <p:cNvPr id="402" name="TextBox 9"/>
          <p:cNvSpPr/>
          <p:nvPr/>
        </p:nvSpPr>
        <p:spPr>
          <a:xfrm>
            <a:off x="0" y="4867200"/>
            <a:ext cx="5029200" cy="2334960"/>
          </a:xfrm>
          <a:prstGeom prst="rect">
            <a:avLst/>
          </a:prstGeom>
          <a:solidFill>
            <a:srgbClr val="eee0db"/>
          </a:solidFill>
          <a:ln w="0">
            <a:noFill/>
          </a:ln>
        </p:spPr>
        <p:style>
          <a:lnRef idx="0"/>
          <a:fillRef idx="0"/>
          <a:effectRef idx="0"/>
          <a:fontRef idx="minor"/>
        </p:style>
        <p:txBody>
          <a:bodyPr lIns="90000" rIns="90000" tIns="46800" bIns="46800" anchor="t">
            <a:spAutoFit/>
          </a:bodyPr>
          <a:p>
            <a:pPr algn="just">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Franklin Gothic Medium"/>
              </a:rPr>
              <a:t>Brief Scope of Work</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detailed scope of work for the transaction advisor to develop the project is provided in the RFP. However, briefly, the Transaction Advisor/ Consulting Firm(s) shall be expected to perform following task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 </a:t>
            </a:r>
            <a:endParaRPr b="0" lang="en-US" sz="1200" spc="-1" strike="noStrike">
              <a:solidFill>
                <a:srgbClr val="000000"/>
              </a:solidFill>
              <a:latin typeface="Arial"/>
            </a:endParaRPr>
          </a:p>
          <a:p>
            <a:pPr algn="just">
              <a:lnSpc>
                <a:spcPct val="100000"/>
              </a:lnSpc>
              <a:buClr>
                <a:srgbClr val="000000"/>
              </a:buClr>
              <a:buFont typeface="Franklin Gothic Medium"/>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Conduct Technical Feasibility of the proposed project.</a:t>
            </a:r>
            <a:endParaRPr b="0" lang="en-US" sz="1200" spc="-1" strike="noStrike">
              <a:solidFill>
                <a:srgbClr val="000000"/>
              </a:solidFill>
              <a:latin typeface="Arial"/>
            </a:endParaRPr>
          </a:p>
          <a:p>
            <a:pPr algn="just">
              <a:lnSpc>
                <a:spcPct val="100000"/>
              </a:lnSpc>
              <a:buClr>
                <a:srgbClr val="000000"/>
              </a:buClr>
              <a:buFont typeface="Franklin Gothic Medium"/>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Conduct Financial, Legal, Socio-economic viability Study, and provide Transaction Advisory Services in respect of the project. </a:t>
            </a:r>
            <a:endParaRPr b="0" lang="en-US" sz="12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st Information, Science &amp; Technology Department in marketing the project and administering the bidding process for implementation of the project</a:t>
            </a:r>
            <a:endParaRPr b="0" lang="en-US" sz="1200" spc="-1" strike="noStrike">
              <a:solidFill>
                <a:srgbClr val="000000"/>
              </a:solidFill>
              <a:latin typeface="Arial"/>
            </a:endParaRPr>
          </a:p>
        </p:txBody>
      </p:sp>
      <p:sp>
        <p:nvSpPr>
          <p:cNvPr id="403" name="Title 1"/>
          <p:cNvSpPr/>
          <p:nvPr/>
        </p:nvSpPr>
        <p:spPr>
          <a:xfrm>
            <a:off x="0" y="762120"/>
            <a:ext cx="9906120" cy="380880"/>
          </a:xfrm>
          <a:prstGeom prst="rect">
            <a:avLst/>
          </a:prstGeom>
          <a:solidFill>
            <a:srgbClr val="ffffff"/>
          </a:solidFill>
          <a:ln w="10080">
            <a:solidFill>
              <a:srgbClr val="a19574"/>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3543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Box 4"/>
          <p:cNvSpPr/>
          <p:nvPr/>
        </p:nvSpPr>
        <p:spPr>
          <a:xfrm>
            <a:off x="1733400" y="720720"/>
            <a:ext cx="643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mbria"/>
              </a:rPr>
              <a:t>DOMICILE &amp; PRC AUTOMATION PROJECT</a:t>
            </a:r>
            <a:endParaRPr b="0" lang="en-US" sz="1800" spc="-1" strike="noStrike">
              <a:solidFill>
                <a:srgbClr val="000000"/>
              </a:solidFill>
              <a:latin typeface="Arial"/>
            </a:endParaRPr>
          </a:p>
        </p:txBody>
      </p:sp>
      <p:pic>
        <p:nvPicPr>
          <p:cNvPr id="405" name="Picture 16" descr="GoS Logo"/>
          <p:cNvPicPr/>
          <p:nvPr/>
        </p:nvPicPr>
        <p:blipFill>
          <a:blip r:embed="rId3"/>
          <a:stretch/>
        </p:blipFill>
        <p:spPr>
          <a:xfrm>
            <a:off x="228600" y="0"/>
            <a:ext cx="99072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ujj Shahneel</dc:creator>
  <dc:description/>
  <dc:language>en-US</dc:language>
  <cp:lastModifiedBy>athar</cp:lastModifiedBy>
  <cp:lastPrinted>2011-11-24T07:32:49Z</cp:lastPrinted>
  <dcterms:modified xsi:type="dcterms:W3CDTF">2016-05-25T10:11:14Z</dcterms:modified>
  <cp:revision>398</cp:revision>
  <dc:subject/>
  <dc:title>Expression of Interest</dc:title>
</cp:coreProperties>
</file>